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EFA9-0E60-47D9-B7A3-14916E117262}"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99C9-5DD0-474C-972C-BD638DEA55C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0AFA-6233-4FA7-A444-B0DCB74A5DD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680" y="299880"/>
            <a:ext cx="807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Creating documentation and metadata</a:t>
            </a:r>
            <a:r>
              <a:rPr b="0" lang="en-US" sz="1200" spc="-1" strike="noStrike">
                <a:solidFill>
                  <a:srgbClr val="000000"/>
                </a:solidFill>
                <a:latin typeface="Helvetica Neue Light"/>
              </a:rPr>
              <a:t>: Recording provenance and context; Version 1.0, Reviewed --/--/20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geo-ide.noaa.gov/wiki/index.php?title=ISO_Lineage"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Creating documentation and metadata: </a:t>
            </a:r>
            <a:br>
              <a:rPr sz="4800"/>
            </a:br>
            <a:r>
              <a:rPr b="0" lang="en-US" sz="4800" spc="-1" strike="noStrike">
                <a:solidFill>
                  <a:srgbClr val="000000"/>
                </a:solidFill>
                <a:latin typeface="Helvetica Neue Light"/>
              </a:rPr>
              <a:t>Recording provenance and contex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a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t>
            </a:r>
            <a:r>
              <a:rPr b="0" lang="en-US" sz="3400" spc="-1" strike="noStrike">
                <a:solidFill>
                  <a:srgbClr val="606060"/>
                </a:solidFill>
                <a:latin typeface="Helvetica Neue"/>
              </a:rPr>
              <a:t>Don’t touch that!  You don’t know where it’s bee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 law, the chain of custody follows a piece of evidence from collection through presentation and helps document its authenticity and reliabilit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 the user community to confidently determine the suitability of your data for specific applications, you must adequately describe “where it’s bee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enance and context may be viewed as the who, what, when, where, why and how details that apply to your data, from collection through processing to final analysi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mparing and combin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electing amongst available data, the user must determine which most closely aligns with the intended purpo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is increased emphasis on combining data and tools from heterogeneous sources in order to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pand coverag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tend conte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validity check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nderstanding the reason data were collected in the first place lends insight into possible bias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iting sources</a:t>
            </a:r>
            <a:endParaRPr b="0" lang="en-US" sz="4400" spc="-1" strike="noStrike">
              <a:solidFill>
                <a:srgbClr val="000000"/>
              </a:solidFill>
              <a:latin typeface="Helvetica Neue Light"/>
            </a:endParaRPr>
          </a:p>
        </p:txBody>
      </p:sp>
      <p:sp>
        <p:nvSpPr>
          <p:cNvPr id="7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imply using existing data from an archive or portal does not guarantee repeatable results.  </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may be updated or corrected</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ssues with data delivery systems could affect the data received</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o ensure your results are repeatable, or that potential differences are accounted for, it’s best to cite not only the source and its accompanying metadata record, but also</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dataset version or similar designator</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specific date(s) on which you acquired the data</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specific URL, request process or other method(s) through which you acquired the data</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ny special subsetting logic or cross-reference information used to restrict the data received</a:t>
            </a:r>
            <a:endParaRPr b="0" lang="en-US" sz="2800" spc="-1" strike="noStrike">
              <a:solidFill>
                <a:srgbClr val="606060"/>
              </a:solidFill>
              <a:latin typeface="Helvetica Neue"/>
            </a:endParaRPr>
          </a:p>
          <a:p>
            <a:pPr lvl="1" marL="64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cess step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Each time data are transformed, unintentional changes may also be introduc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ocumenting each processing step helps isolate changes and the potential for erro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uch documentation may be general, or quite specific. More detail is usually better than less, so when in doubt, spell it ou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If standard algorithms, libraries or other tools are used, they should be clearly referenced.  In the case of libraries, GIS shape files and the like, be sure to document the source, version and date</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ere and how to document</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tandards-based metadata records (ISO 19115-2, FGDC, and others) include areas in which various aspects of provenance and lineage may be documented, includ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Qualit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our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Process step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External citations and referenc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o not let a lack of familiarity with standards put you off!</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t is relatively easy to get assistance in creating standards-based metadata records from a comprehensive set of details captured during your researc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t is very difficult to recreate details that were not recorded fully</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OAA GEO-IDE best practices wiki. </a:t>
            </a:r>
            <a:r>
              <a:rPr b="0" lang="en-US" sz="3400" spc="-1" strike="noStrike" u="sng">
                <a:solidFill>
                  <a:srgbClr val="009999"/>
                </a:solidFill>
                <a:uFillTx/>
                <a:latin typeface="Helvetica Neue"/>
                <a:hlinkClick r:id="rId1"/>
              </a:rPr>
              <a:t>https://geo-ide.noaa.gov/wiki/index.php?title=ISO_Lineage</a:t>
            </a:r>
            <a:r>
              <a:rPr b="0" lang="en-US" sz="3400" spc="-1" strike="noStrike">
                <a:solidFill>
                  <a:srgbClr val="000000"/>
                </a:solidFill>
                <a:latin typeface="Helvetica Neue"/>
              </a:rPr>
              <a:t> </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tracking data process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discover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and credit</a:t>
            </a:r>
            <a:endParaRPr b="0" lang="en-US" sz="3400" spc="-1" strike="noStrike">
              <a:solidFill>
                <a:srgbClr val="606060"/>
              </a:solidFill>
              <a:latin typeface="Helvetica Neue"/>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Jeff Arnfield</dc:creator>
  <dc:description/>
  <dc:language>en-US</dc:language>
  <cp:lastModifiedBy>Jeff Arnfield</cp:lastModifiedBy>
  <dcterms:modified xsi:type="dcterms:W3CDTF">2011-10-20T15:27:40Z</dcterms:modified>
  <cp:revision>59</cp:revision>
  <dc:subject/>
  <dc:title>ESIP Federation 101</dc:title>
</cp:coreProperties>
</file>